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A4B-1428-4F5B-ADB9-CA1287CC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BF20-9968-4771-9286-5499F86C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0D3-7967-44E0-B497-4D5C6379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717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715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60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717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715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D43-9DA9-4D5A-B68E-2032558B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432-314F-48FE-85F3-B857EFBB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1867-1770-4382-969D-71BB6002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8295-F198-4386-BEFF-7E9C3B6B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63C-A600-4F0C-9F4F-01EF5867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1600" y="527040"/>
            <a:ext cx="5914800" cy="88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FFD-49B3-4BD4-8ED1-515F3B74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B7A-8724-4EC1-B6FB-AD700AAB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3F7B-8DA0-45FF-9AC7-9B73C24E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2182-D3D5-4B2F-8616-7A0D833E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160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71600" y="9182160"/>
            <a:ext cx="23148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4344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E9CB-4632-43A6-9265-CAABDC67A8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65400" y="2620800"/>
          <a:ext cx="429084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5400" y="2620800"/>
                    <a:ext cx="429084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1:11:54Z</dcterms:created>
  <dc:creator/>
  <dc:description/>
  <dc:language>en-US</dc:language>
  <cp:lastModifiedBy>admin</cp:lastModifiedBy>
  <dcterms:modified xsi:type="dcterms:W3CDTF">2021-10-08T07:00:17Z</dcterms:modified>
  <cp:revision>62</cp:revision>
  <dc:subject/>
  <dc:title>PowerPoint プレゼンテーション</dc:title>
</cp:coreProperties>
</file>