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17D-1978-4CEB-A1CD-9C62F82F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720-CE87-4ADD-9127-77F9DA4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2D4-BDEC-4757-B00C-8ADE2D5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2DC-8476-49A8-AE31-5E9ED36C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BC1-0CE7-4E08-9A22-AF30E6DD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976-A962-4EC2-B0AA-C05454C4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469-3990-40C6-9A51-BE347D1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EFB-8800-4519-A13D-0D7AECE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AAE-A2E0-43D7-AD60-2525040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72C-B401-488C-BC4E-837C3F1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C58-20C0-408B-A67B-4B1B06D7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806-D3D2-4E97-9285-7E4D2AB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779-366A-4441-8905-C00C8FADBE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0680" y="3941640"/>
          <a:ext cx="429084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3941640"/>
                    <a:ext cx="429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1:11:54Z</dcterms:created>
  <dc:creator/>
  <dc:description/>
  <dc:language>en-US</dc:language>
  <cp:lastModifiedBy>admin</cp:lastModifiedBy>
  <dcterms:modified xsi:type="dcterms:W3CDTF">2021-10-08T07:01:43Z</dcterms:modified>
  <cp:revision>65</cp:revision>
  <dc:subject/>
  <dc:title>PowerPoint プレゼンテーション</dc:title>
</cp:coreProperties>
</file>