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E2C-F407-4744-8F77-A04967F3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2EA-9249-4EBE-BCDC-B0842D52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27C-1FE9-4143-ABDD-8362B768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DE3-D558-4FB6-9D14-95C9B0F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FE7-5931-4769-85A0-EC4F901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BD6-28AF-49B4-94C1-465DE892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5B8-2D13-4779-B267-CF941528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9EC-D6B8-4B36-ABA2-80B2E9BD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C52-8772-4E10-AA97-9F502A4A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2EC-E86B-4D92-A2F6-9C057F18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E2D-D642-4C6C-B0BC-CCFE082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E38-0BC3-4A21-BEC9-75632EF9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C454-2620-40A3-AC06-9FA48D4995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90680" y="3941640"/>
          <a:ext cx="429084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3941640"/>
                    <a:ext cx="42908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1:11:54Z</dcterms:created>
  <dc:creator/>
  <dc:description/>
  <dc:language>en-US</dc:language>
  <cp:lastModifiedBy>admin</cp:lastModifiedBy>
  <dcterms:modified xsi:type="dcterms:W3CDTF">2021-10-08T07:02:08Z</dcterms:modified>
  <cp:revision>66</cp:revision>
  <dc:subject/>
  <dc:title>PowerPoint プレゼンテーション</dc:title>
</cp:coreProperties>
</file>