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0BE-F6F8-48CC-83DC-2DB0DF11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567-679E-4B48-A108-1DB9BDFA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E35-8AE4-4381-95C4-725E2F0D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830-D551-48EB-A580-6B8D6FC9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760-23C7-4B13-B35B-7481675B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E55-02BB-45CA-89CA-901334AD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C5E-A097-4A4B-8B46-9FD8090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E3C-CD40-44E2-95B7-194D017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A2B-B471-4942-B4E7-E13C9DC8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FB4-4FA9-4BCF-9D32-B152D9C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6DB-6A32-4125-9860-AEAD9DB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4DF-BBD9-4229-983B-5FDADB7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324-58F2-470C-8471-0EA5C421D8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82600" y="3378240"/>
          <a:ext cx="429120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3378240"/>
                    <a:ext cx="429120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1:11:54Z</dcterms:created>
  <dc:creator/>
  <dc:description/>
  <dc:language>en-US</dc:language>
  <cp:lastModifiedBy>admin</cp:lastModifiedBy>
  <dcterms:modified xsi:type="dcterms:W3CDTF">2021-10-08T06:59:42Z</dcterms:modified>
  <cp:revision>61</cp:revision>
  <dc:subject/>
  <dc:title>PowerPoint プレゼンテーション</dc:title>
</cp:coreProperties>
</file>