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172E-F6F3-4775-A5B8-CF783A7C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B965-B6E7-494F-A8A2-C6A6E7A3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AE32-4092-4272-A1C1-033078FA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717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715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60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717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715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D499-DFEA-46BF-9E21-05C13763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36D-47DD-4A17-99D4-7D40A486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DCC-F8E9-4301-B10F-EEEA346F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75AE-F627-4804-8163-29E06D92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ACE-1F8D-4095-B2D8-32618130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1600" y="527040"/>
            <a:ext cx="5914800" cy="88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763D-6245-437E-985A-3AC348E5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BB8-18E0-44B7-9A8A-CC7B652D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97B-885D-4450-A43F-539C3B8A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82EB-7DC9-40E6-A025-3D57841A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160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71600" y="9182160"/>
            <a:ext cx="23148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4344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3EC7-6EAF-4832-A716-0BBB51FFE7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3"/>
          <p:cNvGraphicFramePr/>
          <p:nvPr/>
        </p:nvGraphicFramePr>
        <p:xfrm>
          <a:off x="1276200" y="2495520"/>
          <a:ext cx="3533760" cy="32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2495520"/>
                    <a:ext cx="353376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369880" y="5753160"/>
            <a:ext cx="1762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脂肪含量化学分析値と推定値の関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　　　　バーは、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y=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1:11:54Z</dcterms:created>
  <dc:creator/>
  <dc:description/>
  <dc:language>en-US</dc:language>
  <cp:lastModifiedBy>admin</cp:lastModifiedBy>
  <dcterms:modified xsi:type="dcterms:W3CDTF">2021-10-15T02:39:36Z</dcterms:modified>
  <cp:revision>44</cp:revision>
  <dc:subject/>
  <dc:title>PowerPoint プレゼンテーション</dc:title>
</cp:coreProperties>
</file>